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48354"/>
        <c:axId val="49080728"/>
      </c:barChart>
      <c:catAx>
        <c:axId val="56848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80728"/>
        <c:crosses val="autoZero"/>
        <c:auto val="1"/>
        <c:lblAlgn val="ctr"/>
        <c:lblOffset val="100"/>
        <c:noMultiLvlLbl val="0"/>
      </c:catAx>
      <c:valAx>
        <c:axId val="49080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48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252-8417-4080-9B0E-D996A949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470-B97A-4BE0-B402-8B918F9E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F89-4615-4C2D-81FF-BA0DF59E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DB4-CA40-458E-B266-8E60F8BE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285-8875-4900-81CC-274D86F5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292-F8C3-4B41-8BC2-09BB2DDB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723-339E-4EAF-B04F-45B2DCCE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7F1-FD93-4EEF-9D34-9D8C43D6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9EC-E239-4D8E-B2FA-6BAC0A6A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DEE-FE49-422C-9137-9A09B452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9F9-06EB-4590-8111-442E7251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44C-EBBE-4AB8-A3F2-4A33425C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68AD5-0D07-462C-AB61-B46039CB87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