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11043"/>
        <c:axId val="2828261"/>
      </c:barChart>
      <c:catAx>
        <c:axId val="88110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28261"/>
        <c:crosses val="autoZero"/>
        <c:auto val="1"/>
        <c:lblAlgn val="ctr"/>
        <c:lblOffset val="100"/>
        <c:noMultiLvlLbl val="0"/>
      </c:catAx>
      <c:valAx>
        <c:axId val="28282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110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16E8-AE0D-43A6-80BE-BB26A9EA2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EF4D-7F49-4AD8-80E5-8C9532456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A320-46A7-4986-ADC6-E4EA950C4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582B-54A2-444E-A45D-F36C67C0D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D6B1-AB76-4011-A4FD-B2D24AB99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51C7-7BFB-419D-B28A-C65E83E16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F82A-A3AC-472D-85EB-787E44CC2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5EF8-7C07-4C56-BC8C-526726D3A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E9A4-7BC0-46E5-A8E7-8D665D987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1BA3-7F74-4155-8E32-FB41BDA3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F6D1-7409-4826-AEA5-F742D46E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0CC5-5E63-4AF8-90EB-98F1685A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176D9D-8D60-4A14-BF27-1E0C94ABADA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