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768232"/>
        <c:axId val="14794184"/>
      </c:barChart>
      <c:catAx>
        <c:axId val="217682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94184"/>
        <c:crosses val="autoZero"/>
        <c:auto val="1"/>
        <c:lblAlgn val="ctr"/>
        <c:lblOffset val="100"/>
        <c:noMultiLvlLbl val="0"/>
      </c:catAx>
      <c:valAx>
        <c:axId val="147941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682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624-C4E0-41AF-8D3C-208C0F4C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510A-9674-4A51-8668-05321ABC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1714-021E-4AAA-A0D1-D0904809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B89-E6C9-4A1B-8F5D-FCC3A6E6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492-9F01-42AF-A124-B0D6DE53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1992-DFD1-41CB-974E-AEA0021C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F7C-D170-4555-878D-55C17411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0D2C-0F36-4539-941E-2359338E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621-B636-455D-9F1D-A06D8CA4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CFC1-8AC0-4785-BC5D-F3472A61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5000-3448-43F4-AE41-35927CAB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5564-6783-4256-A855-769EAAA3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9CFF8-4B6A-403B-9686-BA43C23B0E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