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272191"/>
        <c:axId val="57476284"/>
      </c:barChart>
      <c:catAx>
        <c:axId val="19272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76284"/>
        <c:crosses val="autoZero"/>
        <c:auto val="1"/>
        <c:lblAlgn val="ctr"/>
        <c:lblOffset val="100"/>
        <c:noMultiLvlLbl val="0"/>
      </c:catAx>
      <c:valAx>
        <c:axId val="57476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72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6FD-B026-419E-9DC2-075C99D7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1227-5A3D-4459-8E1F-D2C4AB0C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F18-DDDF-4457-8CE8-03FF1F35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36E-B8D0-4941-A1B7-83ADD0DF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B71-0AE5-464B-919C-8A60FADF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36E-69DC-4B40-ADA8-739ABF84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5B34-4B9A-4EEA-A593-310067A5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FA8B-F676-4A5A-9F0C-DD904F97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BF3-1986-49D4-AA8B-9DDB54BA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85F9-DEF0-4AB4-8717-87688D36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CC6-4493-42F8-BCCB-17DE183C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E58-2C79-4364-825B-89BD8290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5E9C9-B7EB-4A12-A0B6-766011144B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