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26344"/>
        <c:axId val="86980255"/>
      </c:barChart>
      <c:catAx>
        <c:axId val="88626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80255"/>
        <c:crosses val="autoZero"/>
        <c:auto val="1"/>
        <c:lblAlgn val="ctr"/>
        <c:lblOffset val="100"/>
        <c:noMultiLvlLbl val="0"/>
      </c:catAx>
      <c:valAx>
        <c:axId val="86980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26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4FE-5B9D-43E4-BE6F-2BB2BCE9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4AC-3952-402E-88AC-AC564677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43E-BC99-43DB-824D-BDE9781D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963-14B4-4C33-A20C-F146FA15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846-5647-4586-8D25-CDCEEBA4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5DB-112D-4DE5-A3BB-3AC3BC51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682-F30F-4593-A01E-DD01AE0F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349-6D6C-4F04-B8BD-7F16B22B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48A-DB69-434B-871B-A00D910E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AA6-098F-47B0-9227-529E6B49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309-3A83-4199-A3CF-3687898D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265-1401-4B0E-9387-3E6D72B6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ECF31-BEB0-4BBA-9262-6574F79F08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