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71911"/>
        <c:axId val="17922874"/>
      </c:barChart>
      <c:catAx>
        <c:axId val="80871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22874"/>
        <c:crosses val="autoZero"/>
        <c:auto val="1"/>
        <c:lblAlgn val="ctr"/>
        <c:lblOffset val="100"/>
        <c:noMultiLvlLbl val="0"/>
      </c:catAx>
      <c:valAx>
        <c:axId val="17922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1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620-D15A-4FF7-9E56-694DC623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04D-FE0C-410D-89DD-1C4871B0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F1C-6860-40C2-9095-0176208C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F3B-E909-4D96-AFF4-EF4A65F7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38E-BA1D-40EF-8D26-1CC5319D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872-659B-415A-9075-274D8AD0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6F1-B037-46E0-9C12-C012FD6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E6D-7B26-4042-91D0-B142F3D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347-5B50-4A42-9658-224C5C48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0A3-06E4-4C49-86B4-FB72362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567-BB5C-4AD9-ACD3-AAB367C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30F-9622-4612-8505-E7ECACE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439C7-C6A5-4DCC-AD83-3EB37773A5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