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80730"/>
        <c:axId val="48007549"/>
      </c:barChart>
      <c:catAx>
        <c:axId val="60880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7549"/>
        <c:crosses val="autoZero"/>
        <c:auto val="1"/>
        <c:lblAlgn val="ctr"/>
        <c:lblOffset val="100"/>
        <c:noMultiLvlLbl val="0"/>
      </c:catAx>
      <c:valAx>
        <c:axId val="48007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0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28E-9E99-4F37-817C-3B445241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0D0-436E-4BB2-ABBB-41256173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57F-960C-4B67-8815-700C164A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DAF-872B-48CA-AF1C-3F21D419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2B5-1530-46D4-B70F-F9F52DE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2F6-C34B-4417-A79A-420A738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D68-17CA-4BD9-8758-B52D5FB3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F4C-A36D-43B7-A7FA-4C7F06B1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E58-02FF-4C7A-A726-0642AEB7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6BB-B324-43D6-A085-438F87A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F0E-3A56-4DCE-B7D4-4D880FC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75E-0BC8-41C4-95A8-0D6C0E5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FE774-054E-418E-9468-0DB1D73FE1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