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24977"/>
        <c:axId val="50901012"/>
      </c:barChart>
      <c:catAx>
        <c:axId val="91024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01012"/>
        <c:crosses val="autoZero"/>
        <c:auto val="1"/>
        <c:lblAlgn val="ctr"/>
        <c:lblOffset val="100"/>
        <c:noMultiLvlLbl val="0"/>
      </c:catAx>
      <c:valAx>
        <c:axId val="50901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24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DDE-B04B-4EF2-9683-E20053C1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0BE-D1A4-48A8-A339-9B4DD3B6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90C-349A-4C36-B219-D7E52BAD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069-B4FB-4934-9ABB-DD559FE9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CEB-FD82-49AC-B917-9DB23B94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32B-84F2-4133-AD68-3FE5C6B1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493-D7A3-4D34-8282-F8EF1447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A70-B353-4C7F-B801-12C0E5D0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FA93-7AAA-46F1-AB88-FC32F986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4B76-E747-49E6-B1E2-193FB69F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E04-DB92-4562-B1DF-ABC7C1EF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1D2-675A-4328-A4B2-11966C24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C8A3F-9E97-4CEC-A8C0-F95A4CD4A0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